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720F-504F-4A32-A53F-22A67DFDA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F9C3-6A70-461A-9285-862CF5845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B83B-AC0C-4C53-A68E-685D4D8B2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0702-3E26-4CB6-BC27-E23BCF57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48B2-CE99-49A4-86D3-3621D83C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5ABF-6B66-4367-A619-8A1C83F75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FB83-7805-48E7-9A2A-D967BC18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F7F2-212B-43C3-AAFA-A21186F0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46C6-69A3-4148-80DD-27D174DF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9A4E-B0C5-4FF0-8459-8B7920E2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F693-DE22-435D-8741-94754278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81E2-782F-4753-8675-AC6DD270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2896-D2ED-4322-8289-BC5495B6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399B-FEF8-449F-AED0-BFF957E5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DC40-A43B-42EB-8318-6A5CF8F24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tephanie Fabri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Stephanie Fabriz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Stephanie Fabrizi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Stephanie Fabri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Stephanie Fabrizi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228600" y="3200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22860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228600" y="5562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228600" y="4495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76320" y="53341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228600" y="3429000"/>
            <a:ext cx="16765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i nombre es Stephani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Yo vivo en new york city. Yo tengo catorce años. Tengo 3 hermanos. Soy feliz. Adiós amigo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334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ttan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2485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rald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370880" y="53341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19520" y="3962520"/>
            <a:ext cx="54100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m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sotras estamos aburridas. Tu eres muy alta. Trabajamos mañana. Mucho gusto!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 horas hac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895480" y="3276720"/>
            <a:ext cx="53341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       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Mer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tardes! Estoy cansada! La escuela es difícil! ¿Donde estas tú mañana?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45 minutos hac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14600"/>
            <a:ext cx="457200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Britta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Hola! Yo estoy muy ocupada! ¿Como están hermanos? ¿Enfermos? Mis perros son muy grand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                                            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Te gusta : Comentario:      23 minutos hac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895480" y="4572000"/>
            <a:ext cx="60199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noche!¿ Tu foto es nueva? MI papa trae yo a tu casa mañana! Tengo que preguntarle a mi ma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1 horas hac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971800" y="5181480"/>
            <a:ext cx="4724280" cy="6098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sma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uestras prueba es mañana! ¿Estas loca? Nuestra mente para dormir! No puedo ir ma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: 2 horas hac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971800" y="6019920"/>
            <a:ext cx="586728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erald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 noches! Nosotras tenemos que espera para la gemelas! ¿Cual casa? ¿Por que vamos? Chao! Hasta luego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: Comentario 3 horas hace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6"/>
          <p:cNvSpPr/>
          <p:nvPr/>
        </p:nvSpPr>
        <p:spPr>
          <a:xfrm>
            <a:off x="2819520" y="190512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dias! Como estas? Puedes venir a mi cas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2"/>
          <p:cNvSpPr/>
          <p:nvPr/>
        </p:nvSpPr>
        <p:spPr>
          <a:xfrm>
            <a:off x="992520" y="624852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9" descr="tim"/>
          <p:cNvPicPr/>
          <p:nvPr/>
        </p:nvPicPr>
        <p:blipFill>
          <a:blip r:embed="rId1"/>
          <a:stretch/>
        </p:blipFill>
        <p:spPr>
          <a:xfrm>
            <a:off x="1981080" y="3200400"/>
            <a:ext cx="762120" cy="571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1" descr="awha"/>
          <p:cNvPicPr/>
          <p:nvPr/>
        </p:nvPicPr>
        <p:blipFill>
          <a:blip r:embed="rId2"/>
          <a:stretch/>
        </p:blipFill>
        <p:spPr>
          <a:xfrm>
            <a:off x="2057400" y="5943600"/>
            <a:ext cx="609480" cy="587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2" descr="Geraldine and I"/>
          <p:cNvPicPr/>
          <p:nvPr/>
        </p:nvPicPr>
        <p:blipFill>
          <a:blip r:embed="rId3"/>
          <a:stretch/>
        </p:blipFill>
        <p:spPr>
          <a:xfrm>
            <a:off x="228600" y="5638680"/>
            <a:ext cx="457200" cy="609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3" descr="best friends"/>
          <p:cNvPicPr/>
          <p:nvPr/>
        </p:nvPicPr>
        <p:blipFill>
          <a:blip r:embed="rId4"/>
          <a:stretch/>
        </p:blipFill>
        <p:spPr>
          <a:xfrm>
            <a:off x="1981080" y="25146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4" descr="best friends"/>
          <p:cNvPicPr/>
          <p:nvPr/>
        </p:nvPicPr>
        <p:blipFill>
          <a:blip r:embed="rId5"/>
          <a:stretch/>
        </p:blipFill>
        <p:spPr>
          <a:xfrm>
            <a:off x="762120" y="487692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5" descr="Amina"/>
          <p:cNvPicPr/>
          <p:nvPr/>
        </p:nvPicPr>
        <p:blipFill>
          <a:blip r:embed="rId6"/>
          <a:stretch/>
        </p:blipFill>
        <p:spPr>
          <a:xfrm>
            <a:off x="2057400" y="38862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6" descr="Amina"/>
          <p:cNvPicPr/>
          <p:nvPr/>
        </p:nvPicPr>
        <p:blipFill>
          <a:blip r:embed="rId7"/>
          <a:stretch/>
        </p:blipFill>
        <p:spPr>
          <a:xfrm>
            <a:off x="1447920" y="4952880"/>
            <a:ext cx="533160" cy="400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7" descr="jenni"/>
          <p:cNvPicPr/>
          <p:nvPr/>
        </p:nvPicPr>
        <p:blipFill>
          <a:blip r:embed="rId8"/>
          <a:stretch/>
        </p:blipFill>
        <p:spPr>
          <a:xfrm>
            <a:off x="2057400" y="4495680"/>
            <a:ext cx="762120" cy="571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8" descr="jenni"/>
          <p:cNvPicPr/>
          <p:nvPr/>
        </p:nvPicPr>
        <p:blipFill>
          <a:blip r:embed="rId9"/>
          <a:stretch/>
        </p:blipFill>
        <p:spPr>
          <a:xfrm>
            <a:off x="152280" y="4876920"/>
            <a:ext cx="533520" cy="399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9" descr="tumblr_lwu6gcLtHp1qfgnkqo1_500"/>
          <p:cNvPicPr/>
          <p:nvPr/>
        </p:nvPicPr>
        <p:blipFill>
          <a:blip r:embed="rId10"/>
          <a:stretch/>
        </p:blipFill>
        <p:spPr>
          <a:xfrm>
            <a:off x="2057400" y="5181480"/>
            <a:ext cx="787320" cy="525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0" descr="tumblr_lwu6gcLtHp1qfgnkqo1_500"/>
          <p:cNvPicPr/>
          <p:nvPr/>
        </p:nvPicPr>
        <p:blipFill>
          <a:blip r:embed="rId11"/>
          <a:stretch/>
        </p:blipFill>
        <p:spPr>
          <a:xfrm>
            <a:off x="914400" y="5715000"/>
            <a:ext cx="685800" cy="549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1" descr="757"/>
          <p:cNvPicPr/>
          <p:nvPr/>
        </p:nvPicPr>
        <p:blipFill>
          <a:blip r:embed="rId12"/>
          <a:stretch/>
        </p:blipFill>
        <p:spPr>
          <a:xfrm>
            <a:off x="533520" y="380880"/>
            <a:ext cx="7426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7T18:31:40Z</dcterms:modified>
  <cp:revision>113</cp:revision>
  <dc:subject/>
  <dc:title>Profile</dc:title>
</cp:coreProperties>
</file>